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FD1-D080-42FE-9467-17072E85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FC8-3D00-411F-8816-8D5F7501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07A-4C10-4555-9AE5-1C392E51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668-7643-4E7D-AA97-2C8AAD72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B781-2939-4779-8AB0-1B3C8E5B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BE22-FABD-4A2B-88DC-DBF2535D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D3EF-AEFC-4BDF-B233-DD7D05BD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B726-04A7-4B75-A4D6-91932BE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968-304D-4D51-86B0-62646271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9CB1-FE5B-445A-AA88-45A3F132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D1B-3B09-4759-BC91-886CB63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BEE-7F2A-4274-9968-3D9A6F0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9BAE-CCF4-4994-9317-3C115FF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A3E-DE45-40CB-8527-391EF78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AB4E-FF6F-48CD-B9AB-2564B749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A6D9-5B22-4B74-BD56-BFC44C61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C6B-642E-48BD-ABE5-50335B0D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F1B-4F24-40A8-81F0-08FADAA1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799-D606-4197-A79F-E10CAB08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565-C7DD-4C6B-9D3C-92FA704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DE5-F685-4D1E-8E90-BF68CF40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D18-DF53-4ADB-9D29-C6FFF0E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570-F180-4B03-A4DA-3E3FAC8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AFF-2EDC-48C8-840D-C1F2DCF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4081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0040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b1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8804-A123-4183-BE12-955CA7E7102E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42FB-FD6C-4FFD-B0C8-AA9BBBA7F2BE}" type="slidenum">
              <a:rPr b="0" lang="en-US" sz="12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081"/>
                </a:gs>
                <a:gs pos="100000">
                  <a:srgbClr val="00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4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aadbf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916360" y="2133720"/>
            <a:ext cx="2438280" cy="2280600"/>
            <a:chOff x="2916360" y="2133720"/>
            <a:chExt cx="2438280" cy="2280600"/>
          </a:xfrm>
        </p:grpSpPr>
        <p:sp>
          <p:nvSpPr>
            <p:cNvPr id="194" name=""/>
            <p:cNvSpPr/>
            <p:nvPr/>
          </p:nvSpPr>
          <p:spPr>
            <a:xfrm>
              <a:off x="2916360" y="2133720"/>
              <a:ext cx="2438280" cy="2280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4440" y="2920320"/>
              <a:ext cx="762120" cy="78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4267080"/>
            <a:ext cx="2438280" cy="2285640"/>
            <a:chOff x="5943600" y="4267080"/>
            <a:chExt cx="2438280" cy="2285640"/>
          </a:xfrm>
        </p:grpSpPr>
        <p:grpSp>
          <p:nvGrpSpPr>
            <p:cNvPr id="197" name=""/>
            <p:cNvGrpSpPr/>
            <p:nvPr/>
          </p:nvGrpSpPr>
          <p:grpSpPr>
            <a:xfrm>
              <a:off x="5943600" y="4267080"/>
              <a:ext cx="2438280" cy="2285640"/>
              <a:chOff x="5943600" y="4267080"/>
              <a:chExt cx="2438280" cy="228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943600" y="4267080"/>
                <a:ext cx="2438280" cy="2285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29360" y="4437000"/>
                <a:ext cx="2095200" cy="1953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11880" y="4606920"/>
                <a:ext cx="1710720" cy="1621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162560" y="4267080"/>
              <a:ext cx="0" cy="228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541008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33960" y="5165280"/>
              <a:ext cx="456840" cy="489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2916360" y="2133720"/>
            <a:ext cx="2438280" cy="23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309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ticheta produsului alimentar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5410080"/>
            <a:ext cx="19051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ortanta etichetarii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276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365720"/>
            <a:ext cx="2133360" cy="642600"/>
          </a:xfrm>
          <a:prstGeom prst="rect">
            <a:avLst/>
          </a:prstGeom>
          <a:solidFill>
            <a:srgbClr val="0585bf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Conditii impuse de leg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1268280"/>
            <a:ext cx="2665440" cy="685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6040" indent="-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Elementele etichetei produsului alimentar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609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836640"/>
            <a:ext cx="2590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Simboluri privind protectia mediului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25909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af4"/>
                </a:solidFill>
                <a:latin typeface="Arial"/>
              </a:rPr>
              <a:t>Metode de gestionare a deseurilor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5334120"/>
            <a:ext cx="2590920" cy="368280"/>
          </a:xfrm>
          <a:prstGeom prst="rect">
            <a:avLst/>
          </a:prstGeom>
          <a:solidFill>
            <a:srgbClr val="f4dd52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uneri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286000" y="1341360"/>
            <a:ext cx="4572000" cy="4297320"/>
            <a:chOff x="2286000" y="1341360"/>
            <a:chExt cx="4572000" cy="4297320"/>
          </a:xfrm>
        </p:grpSpPr>
        <p:sp>
          <p:nvSpPr>
            <p:cNvPr id="214" name=""/>
            <p:cNvSpPr/>
            <p:nvPr/>
          </p:nvSpPr>
          <p:spPr>
            <a:xfrm>
              <a:off x="2771640" y="1916280"/>
              <a:ext cx="1295640" cy="1368360"/>
            </a:xfrm>
            <a:prstGeom prst="line">
              <a:avLst/>
            </a:prstGeom>
            <a:ln w="63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286000" y="3284280"/>
              <a:ext cx="1781280" cy="1135080"/>
            </a:xfrm>
            <a:prstGeom prst="line">
              <a:avLst/>
            </a:prstGeom>
            <a:ln w="63360">
              <a:solidFill>
                <a:srgbClr val="0585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191120" y="3352320"/>
              <a:ext cx="2286000" cy="2210040"/>
            </a:xfrm>
            <a:prstGeom prst="line">
              <a:avLst/>
            </a:prstGeom>
            <a:ln w="63360">
              <a:solidFill>
                <a:srgbClr val="f4dd5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191120" y="3276360"/>
              <a:ext cx="2666880" cy="22860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114800" y="1341360"/>
              <a:ext cx="1177920" cy="193536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114800" y="3352680"/>
              <a:ext cx="0" cy="2286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7 -0.00046 C -0.2783 -0.02269 -0.54097 -0.04468 -0.63715 -0.14861 C -0.73333 -0.25231 -0.66371 -0.53958 -0.59288 -0.62222 C -0.52205 -0.70463 -0.32031 -0.62824 -0.2118 -0.64236 C -0.10364 -0.65671 0.04306 -0.75556 0.05643 -0.70741 C 0.0698 -0.65949 -0.06649 -0.41991 -0.13142 -0.35301 C -0.19635 -0.28588 -0.29948 -0.31319 -0.33316 -0.30556 E">
                                      <p:cBhvr>
                                        <p:cTn id="12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40:38Z</dcterms:created>
  <dc:creator>kta</dc:creator>
  <dc:description/>
  <dc:language>en-US</dc:language>
  <cp:lastModifiedBy>Claudiu</cp:lastModifiedBy>
  <dcterms:modified xsi:type="dcterms:W3CDTF">2008-04-02T18:57:54Z</dcterms:modified>
  <cp:revision>57</cp:revision>
  <dc:subject/>
  <dc:title>Template</dc:title>
</cp:coreProperties>
</file>